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9096-E03D-45BD-AE9B-6CB8669D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D246-309C-46D2-B504-7AEC9F80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1556-F3E3-4D25-BB95-38AD453FA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1E8-0125-4EC9-AAE6-5ECFC3CF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9C80-ABDD-4713-84F4-FB87F637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07F4-1477-4A9E-9E24-EFD28A73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B021-5015-49BD-B261-5169DC2B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E50AF-89FA-4FF2-8997-347FB87E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6DF50-8805-4264-94CA-B41FE36D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904760" y="8377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A56B0-0B11-4CB1-82B3-D258796E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A8E4A-8C57-4244-B10F-73E50092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774-D7F3-478D-9C80-2F51C872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BFBEB-BAAD-4C70-A0B9-2E694554E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88F7-BCB6-4824-AF3F-F4F825E7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8BB94-98EF-4A36-8C23-3A303A0A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4140-4FDA-4661-B809-3F3C7CD25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03360"/>
            <a:ext cx="250236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2029-56A0-4586-9332-73FDC0965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0BD-2330-49FB-9B8C-896C988F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915C-ACDB-4AD1-BFC7-5C8CB5D72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70F-2AAB-4C2E-80B6-32006D88A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83772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C17-C24E-48E9-9F08-477C05A4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79BD-363D-4D05-AF1A-71D398438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0336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D816-E4AB-4778-AA6B-09D60722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03360"/>
            <a:ext cx="7772400" cy="188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AB3F-EB00-4EF4-A4F1-00C82284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0B05-7EAB-4CA4-84E1-368F5EAA6766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4760" y="8377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5960" y="632448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162560" y="632448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rebuchet MS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3991-E486-4B3D-9BE8-3819A5ED7E96}" type="slidenum">
              <a:rPr b="0" lang="en-US" sz="1400" spc="-1" strike="noStrike">
                <a:solidFill>
                  <a:srgbClr val="000000"/>
                </a:solidFill>
                <a:latin typeface="Trebuchet MS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76320" y="6324480"/>
            <a:ext cx="190476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Little Rock Maps</a:t>
            </a:r>
            <a:endParaRPr b="1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12520" y="3885840"/>
            <a:ext cx="5715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LRSD Third Grade Social Stud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5714640"/>
            <a:ext cx="5257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A. Ruger, 187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Library of Congress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7" name="Picture 4" descr="A"/>
          <p:cNvPicPr/>
          <p:nvPr/>
        </p:nvPicPr>
        <p:blipFill>
          <a:blip r:embed="rId1"/>
          <a:stretch/>
        </p:blipFill>
        <p:spPr>
          <a:xfrm>
            <a:off x="1219320" y="838080"/>
            <a:ext cx="7315200" cy="500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676160" y="53352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Gazette Printing Company, 1887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89" name="Picture 4" descr="map_image_sepia_ar"/>
          <p:cNvPicPr/>
          <p:nvPr/>
        </p:nvPicPr>
        <p:blipFill>
          <a:blip r:embed="rId1"/>
          <a:stretch/>
        </p:blipFill>
        <p:spPr>
          <a:xfrm>
            <a:off x="838080" y="1319040"/>
            <a:ext cx="7772400" cy="52405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6553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Rickon, Gibb, &amp; Duff, 1888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1" name="Picture 5" descr="map_image-1"/>
          <p:cNvPicPr/>
          <p:nvPr/>
        </p:nvPicPr>
        <p:blipFill>
          <a:blip r:embed="rId1"/>
          <a:stretch/>
        </p:blipFill>
        <p:spPr>
          <a:xfrm>
            <a:off x="1447920" y="1295280"/>
            <a:ext cx="6933960" cy="52056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28800" y="6854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Automobile Blue Book Co., 1920</a:t>
            </a:r>
            <a:br>
              <a:rPr sz="2800"/>
            </a:b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University of Texas Perry-Castañeda Map Collection</a:t>
            </a:r>
            <a:endParaRPr b="1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3" name="Picture 4" descr="little_rock_ark_1920"/>
          <p:cNvPicPr/>
          <p:nvPr/>
        </p:nvPicPr>
        <p:blipFill>
          <a:blip r:embed="rId1"/>
          <a:stretch/>
        </p:blipFill>
        <p:spPr>
          <a:xfrm>
            <a:off x="1295280" y="1500120"/>
            <a:ext cx="739152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655308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rebuchet MS"/>
              </a:rPr>
              <a:t>Current Street Map</a:t>
            </a:r>
            <a:endParaRPr b="1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5" name="Picture 4" descr="map1"/>
          <p:cNvPicPr/>
          <p:nvPr/>
        </p:nvPicPr>
        <p:blipFill>
          <a:blip r:embed="rId1"/>
          <a:stretch/>
        </p:blipFill>
        <p:spPr>
          <a:xfrm>
            <a:off x="2514600" y="1371600"/>
            <a:ext cx="508176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760" y="838080"/>
            <a:ext cx="65530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rebuchet MS"/>
              </a:rPr>
              <a:t>Satellite Photo</a:t>
            </a:r>
            <a:endParaRPr b="1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97" name="Picture 4" descr="401px-Little_Rock_satellite_map"/>
          <p:cNvPicPr/>
          <p:nvPr/>
        </p:nvPicPr>
        <p:blipFill>
          <a:blip r:embed="rId1"/>
          <a:stretch/>
        </p:blipFill>
        <p:spPr>
          <a:xfrm>
            <a:off x="2209680" y="304920"/>
            <a:ext cx="41832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1T15:57:48Z</dcterms:created>
  <dc:creator>Kristin  Mann</dc:creator>
  <dc:description/>
  <dc:language>en-US</dc:language>
  <cp:lastModifiedBy>laura.arnold</cp:lastModifiedBy>
  <dcterms:modified xsi:type="dcterms:W3CDTF">2012-08-17T15:54:07Z</dcterms:modified>
  <cp:revision>3</cp:revision>
  <dc:subject/>
  <dc:title>Little Rock Maps</dc:title>
</cp:coreProperties>
</file>